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30.png" ContentType="image/png"/>
  <Override PartName="/ppt/media/image3.jpeg" ContentType="image/jpeg"/>
  <Override PartName="/ppt/media/image12.gif" ContentType="image/gif"/>
  <Override PartName="/ppt/media/image31.png" ContentType="image/png"/>
  <Override PartName="/ppt/media/image13.png" ContentType="image/png"/>
  <Override PartName="/ppt/media/image1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1.png" ContentType="image/pn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D9417-9A70-4483-B464-E23F05E4E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F1DF7-7399-44E9-9439-942B051D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E3710-59BB-4D13-8E36-5B3DD83AD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5A46F-BF6B-4EFC-87BD-F240CABEB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29BA-C796-4924-B4A0-2187FBC51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0D2E-88AC-407D-8F59-0D5C462B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2A2D-8E36-4695-A0C4-74AD1E10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D354-236B-4B70-BC8C-32109FCD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344B-3A48-4FB6-9012-3635FD2A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03EE-B20C-4F4B-B0B9-DD43F0DC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5603-96AE-455F-A40C-264A20D8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1F029-01AE-43F5-AF70-6F53F5F4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CC3B-F4AD-4E91-ACFC-38D9FA7C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3122-DB05-4F27-BD0F-77209C2C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0D4D-17DF-475F-82FC-E9B66EEC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CFFA-9841-4E82-AD0A-F7426387D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A423-B289-4876-AEB6-73EF93F3B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C5D90-9303-4547-A7AE-F7776BDAD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5E305-D910-4D5B-A0AA-4FAD43BE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69118-369D-4F41-B6F8-CCC754F1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44870-C1D6-403B-82AB-47DDC203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BB249-DC33-4889-BB32-E249BA28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EC39F-56D1-42A9-9303-CCAF437F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BE8DE-AB34-4E6F-AA1E-3672EC40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65FA3-31B5-4FDB-8569-9A92F3A9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164D4-4233-4740-9C62-749A3010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3DA6A-3BEE-4706-B163-33F76479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21EDF-DBA7-404F-A0ED-57B28490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81705-1DC7-4442-9C27-DE4ED541A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8C37C-31C2-4DE9-AA8F-922AFFAD6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CDC2F-CFD3-431A-A308-CCDB9413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83937-2C4A-40C7-B069-BB1AA60E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EBB3E-3FC8-408D-BE44-52D9DE49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4A2D9-BDEA-4DF2-8623-7C01EB2F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8C264-9919-472D-953E-6AB7D626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97B25-F8E3-4826-8264-C7D4C284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343B-53C7-488F-92A1-DE145EA9C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BAC1-7786-48EE-A3EE-E7D84187C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10D4-E081-4BA0-82D3-E321F394B05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¿CUÁL 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7162-E01B-4887-8242-5C075856875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-108000" y="476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Pagina 16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4860-F701-41AF-9D86-279497345DC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019B-5C73-4E13-8148-FC48F8382DB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081B-1427-4A8A-BA55-3A50D4EACA0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3124080" y="115920"/>
            <a:ext cx="2951280" cy="660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ADAE-8C9C-44CF-BC6F-5E18A98FD1B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1"/>
          <a:stretch/>
        </p:blipFill>
        <p:spPr>
          <a:xfrm>
            <a:off x="539640" y="44280"/>
            <a:ext cx="8209080" cy="671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C655-6F38-484D-8FF0-C880F83AB25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03280" y="44280"/>
            <a:ext cx="6697800" cy="6697800"/>
            <a:chOff x="1403280" y="44280"/>
            <a:chExt cx="6697800" cy="6697800"/>
          </a:xfrm>
        </p:grpSpPr>
        <p:pic>
          <p:nvPicPr>
            <p:cNvPr id="182" name="Picture 1" descr=""/>
            <p:cNvPicPr/>
            <p:nvPr/>
          </p:nvPicPr>
          <p:blipFill>
            <a:blip r:embed="rId1"/>
            <a:stretch/>
          </p:blipFill>
          <p:spPr>
            <a:xfrm>
              <a:off x="1403280" y="44280"/>
              <a:ext cx="6697800" cy="66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2"/>
            <p:cNvSpPr/>
            <p:nvPr/>
          </p:nvSpPr>
          <p:spPr>
            <a:xfrm>
              <a:off x="4716000" y="3573360"/>
              <a:ext cx="2520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E32C-52E9-43B9-B150-0A875E8E0EB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187280" y="85680"/>
            <a:ext cx="6480360" cy="668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CD47-BE7C-4E2E-8F35-E30B1B3460E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3.bp.blogspot.com/-OLRKKawkuyQ/Unj_fI0ogqI/AAAAAAAADpo/EuutEgA8PZw/s1600/meeting1.jpg"/>
          <p:cNvPicPr/>
          <p:nvPr/>
        </p:nvPicPr>
        <p:blipFill>
          <a:blip r:embed="rId2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5FA2-5465-42BD-A3E7-E02CE5E5123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BA96-3282-49CF-9DF1-E9382BE8B37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78A9-BBD3-4A87-9256-4535E1EC0EF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1042920" y="3645000"/>
            <a:ext cx="287964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87280" y="206064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03280" y="3500280"/>
            <a:ext cx="817236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684360" y="189000"/>
            <a:ext cx="79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Proverbs 29:18 dice: “Donde no hay visión, el pueblo se extravía;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5642-F34B-423E-B53E-4F4487ED731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1055-4F26-4DCC-B01D-8443F10B8EC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s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1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1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1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6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DE8F-932B-4ABE-A78F-47E8025D0A8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7A80-6CBF-44B7-849D-D5D7542A9EE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EF83-962E-4BB4-B257-C8AAB5190ED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520560" y="2946240"/>
            <a:ext cx="2705400" cy="3810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53C9-838B-46DB-AC0B-69FAFDA6243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-27000"/>
            <a:ext cx="91440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Respuestas: p. 21, 27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0" y="1341360"/>
            <a:ext cx="9144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ON ES UNA CLARA IMAGEN DE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EJOR 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DADO P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O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QUE MUEVE A UNA PERSONA A CREER NO SOLAMENTE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UED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SINO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B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http://pinchofgrace.files.wordpress.com/2011/08/silhouette-of-woman-praying.jpg"/>
          <p:cNvPicPr/>
          <p:nvPr/>
        </p:nvPicPr>
        <p:blipFill>
          <a:blip r:embed="rId1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http://ec.l.thumbs.canstockphoto.com/canstock2777881.jpg"/>
          <p:cNvPicPr/>
          <p:nvPr/>
        </p:nvPicPr>
        <p:blipFill>
          <a:blip r:embed="rId1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21360" y="1181160"/>
            <a:ext cx="2070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14:14Z</dcterms:modified>
  <cp:revision>89</cp:revision>
  <dc:subject/>
  <dc:title>PowerPoint Presentation</dc:title>
</cp:coreProperties>
</file>